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4B03-3FF3-4B68-A2AB-13F2FA931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F740-BF8F-488E-B52E-E12E9AE1B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665E-9A28-4FF3-856B-91058DDC1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3F5A-948C-4037-98FA-0E9F2AF62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7A77-45E7-4EF9-8C74-2BC12168B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1D6C-4765-4AE1-9059-C33DEEF55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A259-F66E-4E25-B799-EE84CDF46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5651-9829-41AD-80AE-64A066FF6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C554-53CD-41DF-822B-FDF100004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6ED7-FE24-47A8-A8A5-0BF099B4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BC45-07BB-4697-AD2F-8CEEFA4B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0379-747D-4841-B91C-7636000A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A26A2-BA50-4551-97C5-31DAD1E7D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68360" y="4437000"/>
            <a:ext cx="64008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еловек неповторим, живет одновременно во внешнем и внутреннем ми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258920" y="1341360"/>
            <a:ext cx="684216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alisto MT"/>
              </a:rPr>
              <a:t>Самопознани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alisto MT"/>
              <a:ea typeface="Calisto M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 flipH="1" rot="21471000">
            <a:off x="6067080" y="3998520"/>
            <a:ext cx="273528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2000" fill="hold"/>
                                        <p:tgtEl>
                                          <p:spTgt spid="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едставим наше сознание («Я») в виде круг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 rot="16200000">
            <a:off x="2502000" y="2114640"/>
            <a:ext cx="3311280" cy="363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393372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067280" y="2276640"/>
            <a:ext cx="0" cy="345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7280" y="4221000"/>
            <a:ext cx="144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Я» скрыт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0000" y="3141720"/>
            <a:ext cx="165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21392400">
            <a:off x="2779200" y="2850840"/>
            <a:ext cx="124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         «Я» открыт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140360" y="301788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Я» слеп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4457880"/>
            <a:ext cx="144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99120" y="4005360"/>
            <a:ext cx="16412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Я» неизвест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2060640"/>
            <a:ext cx="244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31840" y="2082960"/>
            <a:ext cx="253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ткрытое «Я»: знание о себе  и о друг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5394240"/>
            <a:ext cx="29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крытое «Я»: секреты – все, что вы думаете, чувст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уете,скрываете это в себ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19840" y="1989000"/>
            <a:ext cx="2900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лепое «Я»: то, что  инте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сно другим, вам не очень ясно: привычки, манер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щитные механиз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64200" y="5033880"/>
            <a:ext cx="2755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известное «Я»: то,что не известно никому и проявляется в определен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ых ситуациях;бессозна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ельно- мечты,комплек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ы,мистический опы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919840" y="4962600"/>
            <a:ext cx="2973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250" autoRev="1" fill="hold"/>
                                        <p:tgtEl>
                                          <p:spTgt spid="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5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амопознание – это путь от скрытого «Я» к открытому «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жно себе представить, что деление «Я» на четыре равных сектора возможно только в книжке, да и то анонимного авт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жизни мы непременно встречаемся   с индивидуальным своеобразием, когда представленные секторы нерав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1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" dur="2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 бы вы разделили круг на секторы применительно к собственному «Я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1280" y="2637000"/>
            <a:ext cx="8229600" cy="37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чему именно та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27280" y="3068640"/>
            <a:ext cx="3673440" cy="331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203640" y="3833640"/>
            <a:ext cx="244800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indefinite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1" dur="indefinite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2" dur="indefinite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опросы к семинар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такое самопознание и его форм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е место находит самопознание в художественной и философской литературе. Пример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происходит формирование образа - 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формируется самооценка личн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ль самоисповеди и самопознания в жизни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ндивидуальные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найти определения, которые характеризуют ученико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олько характеристик можно отнести к положительным оценка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олько к отрицательны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олько являются нейтральным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оценить себя с точки зрения готовности к учебе и общению с товарищам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сформировать цели самовоспита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08:19:26Z</dcterms:created>
  <dc:creator>учитель</dc:creator>
  <dc:description/>
  <dc:language>en-US</dc:language>
  <cp:lastModifiedBy>Тамара Андреевна</cp:lastModifiedBy>
  <dcterms:modified xsi:type="dcterms:W3CDTF">2008-10-15T04:33:15Z</dcterms:modified>
  <cp:revision>5</cp:revision>
  <dc:subject/>
  <dc:title>Слайд 1</dc:title>
</cp:coreProperties>
</file>